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367-ABD1-4C38-9D91-F48FF514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1AA-20A7-4EE2-B64D-7E9072C4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271-249C-4028-B523-98463745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BED-A653-45DB-A40A-689596BF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836A-2DFB-4A5A-A7C3-D19B635D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7F9A-F44B-423E-AA81-82EC87EF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49F2-E3AF-4DBC-B501-754A9264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3508-AA83-4EE4-8016-5CD2489C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D089-7527-47B6-89B2-CB8AC8B4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8D94-33B8-44DC-8340-2937C731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E3CE-9919-4F97-A09F-215873D3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BF0-023C-4967-BD09-8635FA52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8F7D-0FCF-413C-9F1C-77EBF298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D7D8-2F9A-410F-9A81-CCFFC7D6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D806-0C67-409C-B904-6D403CA3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B09E-D03D-454D-8E37-A34A7660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5C66-0E9E-4C36-B6CC-A4C66D15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2F6-0189-4FEA-BD22-68BB591B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B5A-42E1-4624-831F-1B3D0BF3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8F2-65E1-4EDC-886A-43B90465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3CA-A65E-4970-A9CB-D9F18A59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F79-99CF-4392-AEDB-ABEF4669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21A-FFD3-40F9-8355-DF9065C3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612-0BEA-4EC5-B544-F33A3276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B723-305F-4F9A-86D4-052FC38A9A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1183-5ED3-4E09-B699-8E797DF95F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842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ООО с/к «Юность»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ероссийские соревнования на призы учредителя ООО СК «Юность» А.А.Низамутдинова (метани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3-24.04.2014 г.                                                         г. Сочи (Адлерский рай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на призы учредителя ООО СК «Юность» А.А.Низамутдинова (метания) 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615080" cy="4086000"/>
        </p:xfrm>
        <a:graphic>
          <a:graphicData uri="http://schemas.openxmlformats.org/drawingml/2006/table">
            <a:tbl>
              <a:tblPr/>
              <a:tblGrid>
                <a:gridCol w="3565440"/>
                <a:gridCol w="1710000"/>
                <a:gridCol w="658800"/>
                <a:gridCol w="1680840"/>
              </a:tblGrid>
              <a:tr h="35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К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Колг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Пеш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Жу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м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Крохмал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р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толканию я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Коробей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Ала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Кач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Ле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Ше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н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4-24T12:21:52Z</cp:lastPrinted>
  <dcterms:modified xsi:type="dcterms:W3CDTF">2014-04-24T13:29:25Z</dcterms:modified>
  <cp:revision>52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